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F9A-8501-4045-B3D1-F89CA517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DD2-8A0F-4F62-886C-E21FA20B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454-9712-4B7A-BA83-331310F0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CF8-BAA4-41A5-A42E-C5960280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377-4ED5-43CA-866B-E07F0AA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5A9-EB1A-4751-ADBC-EF04270B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A4D-4585-47D3-A0E8-6C7F8880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1AC-6FC1-4471-8DF0-74F334EC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DAE-C79A-4EC5-8EAA-1BE2829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87E-ADC2-475E-900E-F5522C1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1D5-28B2-4314-927E-3319B9B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494-FB45-4E49-A3A4-A78E7C8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69F-681B-4AC3-9AB6-D64256CF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¿Qué has hecho hoy?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d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Nada, no me siento bien, he ido al medico esta mañana, pero aparte de eso… Y tú?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&lt;&lt;he tenido montón de deberes últimamente, así… No he pasado un buen día, pero bueno… jajaja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d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oye, ¿has visto la nueva película de Almodóvar? ¿Te apetece?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 &lt;&lt;No, no lo he visto, pero hace tres semanas fui al cine y vi la nueva de Spielberg. Fue fatal, no me gustó. Pero es que había esta chica… sabes…Pero sí, la nueva de Almodóvar mola.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d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&lt;&lt;Bueno, si te cae bien, ¿por qué no vamos jueves por la noche? He visto un anuncio en una revista y lo ponen en el cine en mi pueblo.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1197000"/>
            <a:ext cx="7632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Qué has hecho ho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y he estudiado inglés y fisíca- he pasado un día aburrido hasta ah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he hecho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 dormido un p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 hablado con mis amigos y he hecho mis deberes antes de la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spot the new tense- the perfect t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how to form the perfect tense and what it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learn how to form the pluperfect tense and what it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 To practise forming the perfec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 To practise forming the pluperfect t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3240" y="981000"/>
            <a:ext cx="4411440" cy="4665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perfect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907920"/>
            <a:ext cx="7488360" cy="8254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erfect AND pluperfect are the only tenses which have more than 1 bit in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989000"/>
            <a:ext cx="7488360" cy="825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: 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meaning “I have done”, “I have play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refers to something recent eg that has just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ropriate part of the verb “ha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276640"/>
            <a:ext cx="3745080" cy="2494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verb in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ve infinitive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ar : + -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ir / -er : +-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125360"/>
            <a:ext cx="13525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25600" y="1916280"/>
            <a:ext cx="214524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lay (j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916280"/>
            <a:ext cx="244800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gado - 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20160" y="2565360"/>
            <a:ext cx="260388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etend (fing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565360"/>
            <a:ext cx="316872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ido - pre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21600" y="3213000"/>
            <a:ext cx="26208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ope (esper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3213000"/>
            <a:ext cx="309564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rado - 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23440" y="3860640"/>
            <a:ext cx="192708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ry (j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860640"/>
            <a:ext cx="2448000" cy="459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tado - 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49600" y="4437000"/>
            <a:ext cx="2823480" cy="82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ork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n idea](averigu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4437000"/>
            <a:ext cx="2448000" cy="8254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iguado – work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89000"/>
            <a:ext cx="1655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476280"/>
            <a:ext cx="33829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rregu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844640"/>
            <a:ext cx="30243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abrir (to open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cubri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(to cover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(to say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scribir (to writ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hacer (to do / mak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morir (to di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poner (to put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romper (to break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ver (to see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volver (to return)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844640"/>
            <a:ext cx="273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cu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di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m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r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vu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1844640"/>
            <a:ext cx="2232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o /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413000"/>
            <a:ext cx="1943280" cy="398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ing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413000"/>
            <a:ext cx="1944720" cy="3988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98320" y="981000"/>
            <a:ext cx="6104520" cy="4665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pluperfect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237672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luscuam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126828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ctly the same formation as the perfect t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PT: instead of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/ has / 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mos / hais / 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2852640"/>
          <a:ext cx="8569080" cy="16779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152360"/>
                <a:gridCol w="1800360"/>
                <a:gridCol w="1368360"/>
                <a:gridCol w="1655640"/>
              </a:tblGrid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250920" y="4797360"/>
            <a:ext cx="763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ing: I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 furthest tense back i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used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ía terminado mis deberes cuando llamé mi ami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44:48Z</dcterms:created>
  <dc:creator>Owner1</dc:creator>
  <dc:description/>
  <dc:language>en-US</dc:language>
  <cp:lastModifiedBy>Owner1</cp:lastModifiedBy>
  <dcterms:modified xsi:type="dcterms:W3CDTF">2008-11-07T10:53:33Z</dcterms:modified>
  <cp:revision>3</cp:revision>
  <dc:subject/>
  <dc:title>Slide 1</dc:title>
</cp:coreProperties>
</file>